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2D6-0DAB-4921-A813-B22A4988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209-462C-44C6-B213-E9F48239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096-11E0-4A71-8D97-D16E057F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E32-0654-451B-98A5-C47BFC96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D3F-9BC3-4A39-8549-DCFAF720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8B7-FAEE-426B-89C3-F8DE3D02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50B-6F35-4F5B-8961-DFDB615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54D-7A28-49B2-B6C8-D390F45B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906-BCA5-40C1-A85D-E7708A33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261-EE04-47C8-A571-4849623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FF0-A671-4BBD-B53F-F5D36168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1FB-6055-4DA6-9D16-795BB705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6782-B4A8-49B4-97EF-5C0ADC76C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8168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1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981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981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66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666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666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526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352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3526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384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038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038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724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724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10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5410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410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095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6095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6095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8:08:27Z</dcterms:modified>
  <cp:revision>10</cp:revision>
  <dc:subject/>
  <dc:title>Présentation PowerPoint</dc:title>
</cp:coreProperties>
</file>